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B03E-14A0-4A23-9D3F-2A516F3B841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F773-916F-455A-94AA-4FF90A776C2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FCB4-3A58-413E-949F-9D6A1C8F567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06C7-8189-4AC3-9656-9F96A0EAB0A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EA2D-98C0-426A-A8D3-97969557CFE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9B9-DB53-442E-AA99-D8C3CE6F676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7E9F-8207-49E0-B0CE-493D8A323A7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5B2-109E-4DD7-9464-773F1A77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58F-6895-49C9-9352-9FF7F8D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8E8-F2CF-48DA-BD1F-16BC12BA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5DF-FF5E-46B2-9843-3AA8A97D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72E-C647-4FC0-9628-6827F1AD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B16-C1F6-4F7B-9291-5A8FED47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79B-E1B9-4882-825F-04274E38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7BB-21A6-4EB8-AE11-79D0D188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ED9-3E6F-475F-A395-2A2DE237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9FD-D20A-4A2A-9A9E-6C99E35E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90F-4F0B-4E8D-8A0D-1A7B7D70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E71-AB4E-45A1-A314-09DD1F7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2DBE-EF02-4B6C-B50F-96A79CE47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STUDENT-LED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CONFEREN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Program Files\Microsoft Office\Clipart\standard\stddir1\bd07206_.wmf"/>
          <p:cNvPicPr/>
          <p:nvPr/>
        </p:nvPicPr>
        <p:blipFill>
          <a:blip r:embed="rId1"/>
          <a:stretch/>
        </p:blipFill>
        <p:spPr>
          <a:xfrm>
            <a:off x="2971800" y="3048120"/>
            <a:ext cx="32893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3520" y="609480"/>
            <a:ext cx="807696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-LED CON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ents facilitate meetings between the student, their teacher, and their parents for the purpose of 1) reviewing educational progress, 2) setting goals, and 3) securing parent help with go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152388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rn about student-led con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lect on work in each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lect on behaviors and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 Team Evaluation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rn ways to improve various behaviors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rn how to set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t tentative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 an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FORE THE CON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533520" y="129528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0"/>
            <a:ext cx="73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sent report card and 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 reflection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 behavior / attitude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t goals (Personal Education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URING THE CON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4"/>
          <p:cNvSpPr/>
          <p:nvPr/>
        </p:nvSpPr>
        <p:spPr>
          <a:xfrm>
            <a:off x="533520" y="129528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133720" y="1981080"/>
            <a:ext cx="4876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udent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ent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cher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TER THE CON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533520" y="129528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133720" y="1905120"/>
            <a:ext cx="48765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al Sett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lec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f Evalu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cilit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oice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UDENTS LEA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33520" y="129528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02:09:51Z</dcterms:created>
  <dc:creator>BSMA Reynolds</dc:creator>
  <dc:description/>
  <dc:language>en-US</dc:language>
  <cp:lastModifiedBy>Laura and Stew</cp:lastModifiedBy>
  <dcterms:modified xsi:type="dcterms:W3CDTF">2009-10-10T02:23:08Z</dcterms:modified>
  <cp:revision>3</cp:revision>
  <dc:subject/>
  <dc:title>STUDENT-LED CONFERENCES</dc:title>
</cp:coreProperties>
</file>